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050D-2775-462E-8CED-A608D779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A9CA-622C-44E8-9AF5-F5BC86C8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804D-0307-4AC0-AE4B-B380E2DF0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D2E7-C937-4CAE-B5EA-C4A3631E1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5FFF-7EB9-4847-823F-E8DE1878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2E52-B8B9-4A1F-93B9-9F61432A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9AB1-DDFE-4112-A5BE-D8D275C2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486C-2A01-43BF-BFBB-C7E977EC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4F2F-0A2D-4455-B77E-F7BF08B0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78EA-8F7C-4652-8901-FF7F1EF1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A76B-D72C-40DF-9CED-259B55B0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AB6A-7C78-4DA0-AB55-6AC6199B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5849-0A2D-4258-8D31-4497FD70C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2:15:03Z</dcterms:created>
  <dc:creator>Juergen Schmitz</dc:creator>
  <dc:description/>
  <dc:language>en-US</dc:language>
  <cp:lastModifiedBy>Juergen Schmitz</cp:lastModifiedBy>
  <dcterms:modified xsi:type="dcterms:W3CDTF">2006-09-18T12:15:29Z</dcterms:modified>
  <cp:revision>1</cp:revision>
  <dc:subject/>
  <dc:title>Folie 1</dc:title>
</cp:coreProperties>
</file>